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11DB-2915-4498-9005-77F6687D9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1A08-9F04-4110-8A48-D278F4E0D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5192-2E3A-4DCA-8637-CD94F232D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E057-6519-4909-B15A-6FB2058CC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ECD7-182C-4CB9-9F0B-9A4FAECC8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25FA-EF5A-415A-B3C8-56332D0A7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345C-F22B-4804-AAB8-D317B9BCB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D0E5-ED3C-475A-B1EA-0989343A5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13A9-39E1-439A-A44D-5803B0AE9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1F29-5BC7-4A01-AED8-B293058A2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FE68-1B88-457A-84F9-58AA29669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BFF8-4EA3-467D-823D-D211ACF57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3FBAD-6614-441F-8BC9-5523839209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Prayer of Confession (SLD-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God of all merc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give us grace toda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o make a fresh star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know we have not loved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ith our whole hear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nor have we loved our neighbou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s ourselv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s we hope to be forgive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each us how to forgive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lead us forward in a new l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ere neither grudg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nor resentment have a par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rough Jesus Christ our Lor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66"/>
                </a:solidFill>
                <a:latin typeface="Arial"/>
              </a:rPr>
              <a:t>The leader says a scripture sentence, and then s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Hear then Christ’s word of gra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to u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Your sins are forgiven.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anks be to Go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Mark 2: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60958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Prayer © 1999, </a:t>
            </a:r>
            <a:r>
              <a:rPr b="0" i="1" lang="en-US" sz="2400" spc="-1" strike="noStrike">
                <a:solidFill>
                  <a:srgbClr val="bbe0e3"/>
                </a:solidFill>
                <a:latin typeface="Arial Narrow"/>
              </a:rPr>
              <a:t>Methodist Worship 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0T01:42:10Z</dcterms:created>
  <dc:creator>Anon Anon</dc:creator>
  <dc:description/>
  <dc:language>en-US</dc:language>
  <cp:lastModifiedBy>Anon Anon</cp:lastModifiedBy>
  <dcterms:modified xsi:type="dcterms:W3CDTF">2005-08-16T04:20:57Z</dcterms:modified>
  <cp:revision>17</cp:revision>
  <dc:subject/>
  <dc:title>PowerPoint Presentation</dc:title>
</cp:coreProperties>
</file>